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6BC-7EB9-4D79-BCFE-269DE6AD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9018-1981-433E-AA8D-3AA7FD75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82C-B8A8-4AB7-948C-DE671D36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F78-AD28-46B2-99A6-AA67889E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9088-2009-4C9B-B7E1-94F2A475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7838-28F8-4E07-856E-831B324C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8BAF-D030-43FF-89D8-B59400FD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A734-0F2C-4498-88AA-0D99DE2D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986C-0917-4830-BB5E-7C12CF7A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EE04-B9EF-49A9-8970-C7B1DF04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0C2D-54A6-4CF1-B597-6AFB561B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997-03F9-446B-B2F5-36BE3992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FC99-E8F2-4507-ABD4-95DF8DD8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4B14-EAE0-4DEB-856C-0E65CD02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83FF-A68E-4922-85D7-8D077D78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9448-5C09-4D7E-8025-4C9DC3C78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07EF-D97E-483E-92E6-098CE90A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A92-CEE2-45DB-930F-680F41B5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A738-C657-488F-999B-E5B4B530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D9C-DF80-495B-AC10-76832BAC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4F22-89D5-429F-8D25-84C667D9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22D-6664-43C5-94F1-3ADB07AA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1F8-40C1-4AED-B17D-E7374F8C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615-9D49-4E6A-A184-307CB0B3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13C2-1E27-4320-A12A-8325C6C728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D7DC-CBD4-4D16-8FA0-D0EEF1B48ED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ed b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oup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OPE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Special Education teachers are sitting in the teacher’s lounge during their conference period and having a powerful discussion on a new Special Education student in their classroom who has moved in from another distri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grade team plans a unit around Dr. Seuss with the common expectation that students will orally report on their favorite Dr Seuss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380880"/>
            <a:ext cx="4740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LLEGI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LLABO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h teachers discussing how Math is taught across the traditional structural boundaries of grade level and subject mat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01640" y="5335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ever felt alone as a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ic level of intellectual interaction among teac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not require teachers to share 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bedded video on this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tual learning and discussion of classroom pract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ssion of student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lesson pl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id in providing consistent expec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7913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tual decision making to resolve problems of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ships built around communal experience and interests of all school me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focus on student lear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Build Collabo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ents are exposed to how things 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udents work is tied to meaningful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mbers choose to particip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ly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include all members of the faculty and staf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 must be set as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ff must have support and encouragement to become st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4:01:25Z</dcterms:created>
  <dc:creator>Paul Pabian</dc:creator>
  <dc:description/>
  <dc:language>en-US</dc:language>
  <cp:lastModifiedBy>Paul Pabian</cp:lastModifiedBy>
  <dcterms:modified xsi:type="dcterms:W3CDTF">2007-01-18T04:38:51Z</dcterms:modified>
  <cp:revision>2</cp:revision>
  <dc:subject/>
  <dc:title>The 3 C’s</dc:title>
</cp:coreProperties>
</file>